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894E-49A9-4EB3-962C-9205E94D6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6805-9374-4E65-9326-20A431211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716E-14CB-4AA6-B4E5-20366AEC4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7C33-1D60-4723-9DDF-9F79DDD8B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7CE2-BC95-4D22-9093-435C512D4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7C51-5689-4CE0-BE18-8E024E1F9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3FE2-C7BC-485A-A0D5-1BEF12AA7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70A3-3C12-4C6D-A858-A4552C45D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AA92-01B5-4B3E-BFE6-318E654BA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C3E7-7593-4045-B74E-C52B1390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CB55-1D1B-47EE-B7A1-1250056D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E167-B6AC-4291-816A-D4D89E43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2C539-BE7F-4BC6-89A5-FFB211158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hyperlink" Target="http://www.freeplaymusic.com/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hyperlink" Target="http://web.mit.edu/invent/iow/epperson.html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90920" y="533520"/>
            <a:ext cx="403848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Popsicles</a:t>
            </a:r>
            <a:endParaRPr b="0" lang="en-US" sz="6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0" y="396252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itlyn Cas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tember 15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3124080"/>
            <a:ext cx="2727360" cy="3429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666880" y="3429000"/>
            <a:ext cx="518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ntion by: Frank Ep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295280" y="14479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743200" y="5562720"/>
            <a:ext cx="5943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ic: Free Music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ll My Chick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9/23/1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freeplaymusic.com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22222E-006 2.19653E-006 C -0.01042 0.00439 -0.01494 0.01757 -0.02223 0.02728 C -0.0257 0.04185 -0.0356 0.04578 -0.04289 0.05688 C -0.04914 0.06636 -0.05226 0.07815 -0.05712 0.08878 C -0.06181 0.09919 -0.06806 0.10613 -0.0731 0.11607 C -0.08421 0.16115 -0.08785 0.20855 -0.09046 0.25572 C -0.08872 0.3237 -0.09271 0.39884 -0.07935 0.46497 C -0.07761 0.48462 -0.07431 0.5015 -0.06355 0.5156 C -0.05244 0.54589 -0.03612 0.56763 -0.01598 0.58751 C -0.0073 0.59607 0.00069 0.60693 0.00954 0.61503 C 0.02864 0.6326 0.04947 0.643 0.07135 0.6511 C 0.07465 0.65063 0.1059 0.64925 0.11892 0.64462 C 0.13836 0.63769 0.15225 0.61803 0.16666 0.60023 C 0.17638 0.58844 0.18454 0.57896 0.19201 0.56439 C 0.19774 0.54127 0.19913 0.51745 0.20468 0.49456 C 0.20364 0.47352 0.20399 0.45202 0.20156 0.43121 C 0.20069 0.42428 0.19687 0.4185 0.19513 0.41202 C 0.17899 0.35306 0.16996 0.29988 0.12065 0.27676 C 0.10121 0.27769 0.04861 0.27907 0.02847 0.28323 C 0.02343 0.28439 0.02031 0.29433 0.01736 0.29803 C 0.00833 0.30936 -0.00417 0.31607 -0.01112 0.32971 C -0.01789 0.34312 -0.02587 0.35907 -0.03021 0.3741 C -0.03473 0.38936 -0.03646 0.40532 -0.04133 0.42058 C -0.04428 0.44855 -0.0474 0.47098 -0.04931 0.50081 C -0.04879 0.51422 -0.04896 0.52763 -0.04775 0.54104 C -0.04619 0.55884 -0.03629 0.57271 -0.03021 0.58751 C -0.01893 0.6148 -0.02275 0.61572 -0.00487 0.6363 C 0.00034 0.64208 0.00295 0.64601 0.00954 0.64878 C 0.02117 0.6652 0.04322 0.65017 0.05555 0.64046 C 0.06145 0.62821 0.07204 0.62173 0.08246 0.61919 C 0.08767 0.6148 0.09357 0.61179 0.09843 0.6067 C 0.10607 0.59838 0.11145 0.58751 0.11736 0.57711 C 0.12291 0.56717 0.12534 0.55376 0.13176 0.5452 C 0.13975 0.51329 0.12638 0.49133 0.10624 0.4756 C 0.10433 0.47167 0.10381 0.46659 0.10156 0.46289 C 0.10034 0.46081 0.09826 0.46034 0.0967 0.45873 C 0.08489 0.44601 0.07361 0.44208 0.05867 0.43954 C 0.04322 0.43283 0.05277 0.43769 0.03333 0.42474 C 0.03124 0.42335 0.0269 0.42058 0.0269 0.42058 C 0.00815 0.39491 0.03489 0.4289 0.01111 0.40786 C 0.00555 0.40277 0.00156 0.39514 -0.0033 0.3889 C -0.01268 0.37688 -0.02153 0.3674 -0.02865 0.35283 C -0.03212 0.32 -0.03091 0.33711 -0.02865 0.27884 C -0.0283 0.27029 -0.03074 0.2585 -0.02553 0.25364 C -0.01806 0.24647 -0.00192 0.24624 0.00624 0.24508 C 0.01406 0.23514 0.02499 0.24092 0.03489 0.23676 C 0.04426 0.22358 0.03524 0.23815 0.03958 0.19861 C 0.04097 0.18636 0.0493 0.17456 0.05225 0.16277 C 0.05034 0.08624 0.06128 0.1126 0.03333 0.08647 C 0.03107 0.07722 0.02621 0.07144 0.02222 0.06335 C 0.0184 0.04763 0.0085 0.03283 0.00156 0.01896 C 0.00051 0.01688 -0.00053 0.01456 -0.00157 0.01248 C -0.00244 0.01086 -0.00504 0.0104 -0.00487 0.00832 C -0.00452 0.00485 -0.00157 0.00277 -7.22222E-006 2.19653E-006 Z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Epperson"/>
          <p:cNvPicPr/>
          <p:nvPr/>
        </p:nvPicPr>
        <p:blipFill>
          <a:blip r:embed="rId2"/>
          <a:stretch/>
        </p:blipFill>
        <p:spPr>
          <a:xfrm>
            <a:off x="0" y="0"/>
            <a:ext cx="9144000" cy="28195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4114800"/>
            <a:ext cx="914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s MIT Progra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rank Eppers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pt. 19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eb.mit.edu/invent/iow/epperso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k Epperson invented the popsic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Popsi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more than 30 flavors for popsic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grape, lemon, lime, banana,  cherry, raspberry, and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st popular flavor has been or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brands have jumped in on the popsicle concept, with competing offerings from supermarket chains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a nice summer trea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Frank Epper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nk Epperson invented the popsicle when he was only eight years o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was born in San Francis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mixed soda powder and water toge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nk mistakenly left it on the porch on a winter 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he got up in the morning, he saw the stick stuck in the frozen drin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called it, a popsi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5T14:00:28Z</dcterms:created>
  <dc:creator>install</dc:creator>
  <dc:description/>
  <dc:language>en-US</dc:language>
  <cp:lastModifiedBy>install</cp:lastModifiedBy>
  <dcterms:modified xsi:type="dcterms:W3CDTF">2011-09-26T13:56:42Z</dcterms:modified>
  <cp:revision>8</cp:revision>
  <dc:subject/>
  <dc:title>Slide 1</dc:title>
</cp:coreProperties>
</file>